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29400" y="5689440"/>
            <a:ext cx="2279520" cy="96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Visual Basic And The Interne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05120"/>
            <a:ext cx="777240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l Frankl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apexsc.com/users/car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lf@apexsc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ed by Carl Franklin and Chris Bar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9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REE BE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Preferred Mode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r to Peer Information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r Client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shared in standard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ed by generic vie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d by generic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ture of desktop Window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The Interne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657440"/>
            <a:ext cx="815328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wide Network of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losive growth!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994:  2,000,000 h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995 ?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Holy Web Browsers, Batman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70200" y="2589120"/>
            <a:ext cx="56088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4,800,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Internet Applicatio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FTP, Gopher, News,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Text-Based Protoc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Internet Protocol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05120"/>
            <a:ext cx="7772400" cy="36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For Comments (RFC)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ds.internic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: EMail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File Transfe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5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Fil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43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NTP: Usenet New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7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TCP/IP Crash Cour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Benefits of TCP/IP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Reliab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Rou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Resequenc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ajor Error Handling in Ap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involve O.J. Simp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TCP/IP Crash Cour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20574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IP Addres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8-bit numbers separated by d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s a network ca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192.204.192.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times called the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 Add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IP Machine Nam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05120"/>
            <a:ext cx="7772400" cy="35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ord stands for a dom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www.apexsc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 Level Dom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: type of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edu   .com   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side USA: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jp (Japan)   .de (Germany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7524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Who Am I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PJ Q&amp;A Column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Proprieter of Carl &amp; Gary’s VB Home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ftware Develo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TCP/IP Crash Cour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ddr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Name Resolu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05120"/>
            <a:ext cx="7772400" cy="36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 (Domain Name System) servers return an IP address given a registered Internet host machine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 (Windows Internet Name System) allows you to import a DNS database for local name resolu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TCP/IP Crash Cour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ddr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Name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IP Por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that identifies an application running on an Internet host mac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- port 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 (EMail) - port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23960" y="272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Connecting to the Interne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Connectivity Optio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05120"/>
            <a:ext cx="7772400" cy="37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-up service (up to 28.8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 Dial up access (MS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P/P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DN line (56K - 128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1 service (1.5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3 (192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Programming The Interne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Windows Socket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level - sits on top of TCP/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upport other protocols in the fu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= IP Address : IP 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Winsock Programming Tool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.DLL Direct API C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 Custom Contr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lphin Systems DSS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DSSocke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lphin Systems’ Windows Sockets VBX and OLE contr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ware, no distribution fe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both Client and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d in sample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Presentation Pla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rash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The 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Step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Conn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Conn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Connecting with dsSocke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for any protoc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the IP Address o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the 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l Sockets to conn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afety, close connection fir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43040" y="1752480"/>
            <a:ext cx="788688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ss.RemoteHost = “www.apexsc.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ss.RemotePort =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ss.Action = SOCK_ACTION_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- The Connect event f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390840" y="601560"/>
            <a:ext cx="2273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Sending Dat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Prope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ch WouldBlock Err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19000" y="1352520"/>
            <a:ext cx="75247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Me$ = “Some 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n Error Resume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ss.Send = SendMe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Err = WSA_OPERATIONWOULDBLOCK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 Until nSendReadyFlag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ss.Send = SendMe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90840" y="601560"/>
            <a:ext cx="2273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Receiving Dat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 Event passes a st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LineMode, every line fires the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Size property defines largest buffer pa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6760" y="1695600"/>
            <a:ext cx="8591400" cy="35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 Dss_Receive (ReceiveData As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bug.Print Receiv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90840" y="601560"/>
            <a:ext cx="2273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Closing The Connec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ction property to SOCK_ACTION_CL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n Error Resume Nex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81200" y="1638360"/>
            <a:ext cx="7505640" cy="30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n Error Resum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ss.Action = SOCK_ACTION_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90840" y="601560"/>
            <a:ext cx="2273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Error Handl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Event passes an error code and message st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need to know when connection is lost. Everything else is handled for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System Architectur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66720" y="2590920"/>
            <a:ext cx="7772400" cy="14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Resources on the Internet for Visual Basic Programmer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4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Carl &amp; Gary’s Visual Basic Home Pag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4304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able News Arch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 Tips, Q&amp;A, and Arti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ant listing/Product Fo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To All Things V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Carl &amp; Gary’s UR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36720" y="3005280"/>
            <a:ext cx="72644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http://www.apexsc.com/v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Other Good VB Web Sit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6880" y="1846440"/>
            <a:ext cx="835992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Developer Excha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windx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ide Visual Bas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cobb.ziff.com/~cobb/vbasic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 White Papers (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microsoft.com/vbasic/vbwhite/vbwhi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Sample Applicatio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0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#1: NetPa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ous Wallpaper 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#2: SMTP Send Em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#3: WinSock Termi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In Developing Internet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450800" y="2411280"/>
            <a:ext cx="59990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Demo Ti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Sample Co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05120"/>
            <a:ext cx="7772400" cy="37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In Internet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Carl &amp; Gary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apexsc.com/vb/vbweb.z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DSSOCK (both VBX and OCX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5008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Chirs Barlow’s Munich Sou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0280" y="2571840"/>
            <a:ext cx="7772400" cy="11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00"/>
                </a:solidFill>
                <a:latin typeface="Arial Narrow"/>
                <a:ea typeface="Arial Narrow"/>
              </a:rPr>
              <a:t>Questions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Mainframes - 1970’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1571760"/>
            <a:ext cx="75913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66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Standalone PC - 1980-1985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11200" y="1108080"/>
            <a:ext cx="6294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04880" y="34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PC Networks - 1985-199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11200" y="1108080"/>
            <a:ext cx="6294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Client/Server - 1995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11200" y="1943280"/>
            <a:ext cx="62946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Preferred Mode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17600" y="1479600"/>
            <a:ext cx="64800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pyright 1995 Carl Franklin &amp; Chris Barlow</dc:creator>
  <dc:description/>
  <dc:language>en-US</dc:language>
  <cp:lastModifiedBy>Carl Franklin</cp:lastModifiedBy>
  <cp:revision>0</cp:revision>
  <dc:subject>Internet &amp; the Web - Munich 09/95</dc:subject>
  <dc:title>VBWeb</dc:title>
</cp:coreProperties>
</file>