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9E220-1C96-4C98-BAD7-AA169F5ED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7FF05-E9F0-4DF9-951F-798070E8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812EC-F91A-4CA2-8783-B99D4E3B5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DBAD0-DAD4-4BFC-9AD6-42AD53B22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3BE28-A310-4189-8EE6-CB69502C9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DAE38-ABE3-4654-AF78-0C41D97BB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1D104-5932-4E9D-8C8E-721CB2F97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BA14-3AA6-44FB-83C6-46DBE86E4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74ABD-EADB-4D37-A177-34B2896D2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D4E06-B639-431C-B3A7-73734277F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47153-FF31-4675-9FDE-15689F56E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6F20-C20D-4F46-8CEB-AFE2F8159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C2590-F899-4D98-944D-86B2C9DDF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1AD62-3682-45D0-B416-E8A179E0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325A-40BD-4A38-B51B-89315FCC5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BB642-A9CF-4452-8D68-30D44CD0C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757D7-A253-4E33-8EF3-2C013AC5F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300E-54EC-45CC-BF0F-29B36DBC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FC4A-EC15-464A-A83C-467F3902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CBD3-9D27-4E27-8C29-369AEB8EA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0DAF-D833-41A8-B3E9-32B9D5EB2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238B-2933-452A-BC1E-35A4580C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28DF-6947-4FB2-8B1A-0C7B632D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8F1B-D0B4-49D7-AC04-E8562DD21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83FC-3153-4C55-995E-94EEA2E7E3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8AE-E9D8-463C-B231-E66BF7A9B7E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etamorphic Virus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n O’Tool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I = Entrypoi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hMarks: buffer that will contain the depermutated vi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elTable: list of elements that are each two DWORDs long. The first DWORD stores the real EIP where it points; the second stores a pointer to the depermutated cod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utureLableTable: list that contains pointers to the destinations of JMPs, CALLs, etc. that have not yet been depermutated. Each element is a DWO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itializations:</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Initialize the PathMarks map (i.e. zeroing it) and the number of labels and future labels. </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Translate the current EIP (in ESI) directly onto the PathMarks map.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it's JMP: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If it points to an already depermutated address, write a JMP instruction, insert a label to the destiny and get a new EIP at FutureLabelTable. If the label already exists, use that label.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If not, then write a NOP (just in case a label points directly to this JMP) and load a new EIP (in ESI) with the destiny. In this way, we have eliminated a possible permutation JMP.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it's Jcc (conditional jump):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If it points to an already depermutated address, write the Jcc and insert a label to the destiny if the label doesn't exist (if not, use the label already inserted in the tabl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If the destiny is not depermutated yet, then store it at FutureLabelTable and continu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it's CALL, act as if it were a Jcc.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it's RET, JMP Reg or JMP [Mem] (a final leaf in the code tree), store the instruction and get a new EIP from FutureLabelTa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getting a new EIP from the FutureLabelTable, we check if the labels stored here are already depermutated. If they are, then we insert the corresponding labels at the LabelTable and eliminate the entry in FutureLabelTable. If not, we get that new EIP (i.e. we load ESI with that new entrypoint), we insert the new label at LabelTable and continu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1) Psuedo-Code</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creating a depermutater as a stand-alone module.  The Psuedo-Code is the same, except that when depermuating a jump the pointers in the elements of the list are manipulated instea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2.1) Example (permutated code)</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905120"/>
            <a:ext cx="2590560" cy="4038480"/>
          </a:xfrm>
          <a:prstGeom prst="rect">
            <a:avLst/>
          </a:prstGeom>
          <a:noFill/>
          <a:ln w="0">
            <a:noFill/>
          </a:ln>
        </p:spPr>
        <p:txBody>
          <a:bodyPr lIns="90000" rIns="90000" tIns="46800" bIns="46800" anchor="t">
            <a:normAutofit fontScale="99000"/>
          </a:bodyPr>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1</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2</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3</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jmp @A</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yyy1</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yyy2</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r>
              <a:rPr b="0" lang="en-US" sz="2700" spc="-1" strike="noStrike">
                <a:solidFill>
                  <a:srgbClr val="ffffff"/>
                </a:solidFill>
                <a:latin typeface="Arial"/>
              </a:rPr>
              <a:t>	</a:t>
            </a:r>
            <a:r>
              <a:rPr b="0" lang="en-US" sz="2700" spc="-1" strike="noStrike">
                <a:solidFill>
                  <a:srgbClr val="ffffff"/>
                </a:solidFill>
                <a:latin typeface="Arial"/>
              </a:rPr>
              <a:t>xxx4</a:t>
            </a:r>
            <a:endParaRPr b="0" lang="en-US" sz="2700" spc="-1" strike="noStrike">
              <a:solidFill>
                <a:srgbClr val="ffffff"/>
              </a:solidFill>
              <a:latin typeface="Arial"/>
            </a:endParaRPr>
          </a:p>
          <a:p>
            <a:pPr marL="33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5</a:t>
            </a:r>
            <a:endParaRPr b="0" lang="en-US" sz="2700" spc="-1" strike="noStrike">
              <a:solidFill>
                <a:srgbClr val="ffffff"/>
              </a:solidFill>
              <a:latin typeface="Arial"/>
            </a:endParaRPr>
          </a:p>
        </p:txBody>
      </p:sp>
      <p:sp>
        <p:nvSpPr>
          <p:cNvPr id="124" name=""/>
          <p:cNvSpPr/>
          <p:nvPr/>
        </p:nvSpPr>
        <p:spPr>
          <a:xfrm>
            <a:off x="3276720" y="1905120"/>
            <a:ext cx="2590560" cy="4038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6</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jmp @C</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yyy3</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yyy4</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r>
              <a:rPr b="0" lang="en-US" sz="2700" spc="-1" strike="noStrike">
                <a:solidFill>
                  <a:srgbClr val="ffffff"/>
                </a:solidFill>
                <a:latin typeface="Arial"/>
              </a:rPr>
              <a:t>	</a:t>
            </a:r>
            <a:r>
              <a:rPr b="0" lang="en-US" sz="2700" spc="-1" strike="noStrike">
                <a:solidFill>
                  <a:srgbClr val="ffffff"/>
                </a:solidFill>
                <a:latin typeface="Arial"/>
              </a:rPr>
              <a:t>xxx7</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8</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xxx9</a:t>
            </a:r>
            <a:endParaRPr b="0" lang="en-US" sz="2700" spc="-1" strike="noStrike">
              <a:solidFill>
                <a:srgbClr val="ffffff"/>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jmp @B</a:t>
            </a:r>
            <a:endParaRPr b="0" lang="en-US" sz="2700" spc="-1" strike="noStrike">
              <a:solidFill>
                <a:srgbClr val="ffffff"/>
              </a:solidFill>
              <a:latin typeface="Arial"/>
            </a:endParaRPr>
          </a:p>
        </p:txBody>
      </p:sp>
      <p:sp>
        <p:nvSpPr>
          <p:cNvPr id="125" name=""/>
          <p:cNvSpPr/>
          <p:nvPr/>
        </p:nvSpPr>
        <p:spPr>
          <a:xfrm>
            <a:off x="6095880" y="1905120"/>
            <a:ext cx="2590920" cy="4038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
            </a:r>
            <a:r>
              <a:rPr b="0" lang="en-US" sz="2500" spc="-1" strike="noStrike">
                <a:solidFill>
                  <a:srgbClr val="ffffff"/>
                </a:solidFill>
                <a:latin typeface="Arial"/>
              </a:rPr>
              <a:t>	</a:t>
            </a:r>
            <a:r>
              <a:rPr b="0" lang="en-US" sz="2500" spc="-1" strike="noStrike">
                <a:solidFill>
                  <a:srgbClr val="ffffff"/>
                </a:solidFill>
                <a:latin typeface="Arial"/>
              </a:rPr>
              <a:t>xxx13</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4</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RET</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yyy5</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r>
              <a:rPr b="0" lang="en-US" sz="2500" spc="-1" strike="noStrike">
                <a:solidFill>
                  <a:srgbClr val="ffffff"/>
                </a:solidFill>
                <a:latin typeface="Arial"/>
              </a:rPr>
              <a:t>	</a:t>
            </a:r>
            <a:r>
              <a:rPr b="0" lang="en-US" sz="2500" spc="-1" strike="noStrike">
                <a:solidFill>
                  <a:srgbClr val="ffffff"/>
                </a:solidFill>
                <a:latin typeface="Arial"/>
              </a:rPr>
              <a:t>xxx10</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1</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jz  @D</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2</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RE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2.2) Example (depermutated code)</a:t>
            </a:r>
            <a:endParaRPr b="0" lang="en-US" sz="4000" spc="-1" strike="noStrike">
              <a:solidFill>
                <a:srgbClr val="ffffff"/>
              </a:solidFill>
              <a:latin typeface="Times New Roman"/>
            </a:endParaRPr>
          </a:p>
        </p:txBody>
      </p:sp>
      <p:sp>
        <p:nvSpPr>
          <p:cNvPr id="127" name=""/>
          <p:cNvSpPr/>
          <p:nvPr/>
        </p:nvSpPr>
        <p:spPr>
          <a:xfrm>
            <a:off x="380880" y="1905120"/>
            <a:ext cx="259092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2819520" y="1905120"/>
            <a:ext cx="259056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0</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1</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jz  @D</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2</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RET</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
            </a:r>
            <a:r>
              <a:rPr b="0" lang="en-US" sz="2500" spc="-1" strike="noStrike">
                <a:solidFill>
                  <a:srgbClr val="ffffff"/>
                </a:solidFill>
                <a:latin typeface="Arial"/>
              </a:rPr>
              <a:t>	</a:t>
            </a:r>
            <a:r>
              <a:rPr b="0" lang="en-US" sz="2500" spc="-1" strike="noStrike">
                <a:solidFill>
                  <a:srgbClr val="ffffff"/>
                </a:solidFill>
                <a:latin typeface="Arial"/>
              </a:rPr>
              <a:t>xxx13</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4</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RET</a:t>
            </a:r>
            <a:endParaRPr b="0" lang="en-US" sz="2500" spc="-1" strike="noStrike">
              <a:solidFill>
                <a:srgbClr val="ffffff"/>
              </a:solidFill>
              <a:latin typeface="Arial"/>
            </a:endParaRPr>
          </a:p>
        </p:txBody>
      </p:sp>
      <p:sp>
        <p:nvSpPr>
          <p:cNvPr id="129" name=""/>
          <p:cNvSpPr/>
          <p:nvPr/>
        </p:nvSpPr>
        <p:spPr>
          <a:xfrm>
            <a:off x="685800" y="1981080"/>
            <a:ext cx="2590920" cy="4038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1</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2</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3</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7</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8</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9</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4</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5</a:t>
            </a:r>
            <a:endParaRPr b="0" lang="en-US" sz="2500" spc="-1" strike="noStrike">
              <a:solidFill>
                <a:srgbClr val="ffffff"/>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xxx6</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3) Code</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l the depermutators that I have run into have been included within the disassembler or reverse-engineering tools.  Therefore, I do not have a concrete example of a depermuation modul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amorphism </a:t>
            </a:r>
            <a:r>
              <a:rPr b="0" lang="en-US" sz="4400" spc="-1" strike="noStrike">
                <a:solidFill>
                  <a:srgbClr val="ffffff"/>
                </a:solidFill>
                <a:latin typeface="Times New Roman"/>
              </a:rPr>
              <a:t>Defined</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Body-polymorphics” (Szor, 127)</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Self Mutating Code” (Lord Juli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The Art of Extreme Mutation” (Mental Drill)</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Shrinker</a:t>
            </a:r>
            <a:endParaRPr b="0" lang="en-US" sz="4400" spc="-1" strike="noStrike">
              <a:solidFill>
                <a:srgbClr val="ffffff"/>
              </a:solidFill>
              <a:latin typeface="Times New Roman"/>
            </a:endParaRPr>
          </a:p>
        </p:txBody>
      </p:sp>
      <p:sp>
        <p:nvSpPr>
          <p:cNvPr id="13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hrinker is pretty much a stand alone modul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nly possible relation is if the expander uses a list to find code and choose an equivalent, the list can be reversed to find the shrunken equivalent to a cluster of op cod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1) Psuedo-Code</a:t>
            </a:r>
            <a:endParaRPr b="0" lang="en-US" sz="4400" spc="-1" strike="noStrike">
              <a:solidFill>
                <a:srgbClr val="ffffff"/>
              </a:solidFill>
              <a:latin typeface="Times New Roman"/>
            </a:endParaRPr>
          </a:p>
        </p:txBody>
      </p:sp>
      <p:sp>
        <p:nvSpPr>
          <p:cNvPr id="135" name="PlaceHolder 2"/>
          <p:cNvSpPr>
            <a:spLocks noGrp="1"/>
          </p:cNvSpPr>
          <p:nvPr>
            <p:ph/>
          </p:nvPr>
        </p:nvSpPr>
        <p:spPr>
          <a:xfrm>
            <a:off x="533160" y="1828800"/>
            <a:ext cx="3733560" cy="403848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Pointer = FirstInstruction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op: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CurrentPointer] == MATCHING_SINGLE){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vert it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oto @@Loop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MATCHING_PAI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nvert it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p:txBody>
      </p:sp>
      <p:sp>
        <p:nvSpPr>
          <p:cNvPr id="136" name=""/>
          <p:cNvSpPr/>
          <p:nvPr/>
        </p:nvSpPr>
        <p:spPr>
          <a:xfrm>
            <a:off x="4495680" y="1981080"/>
            <a:ext cx="3733920" cy="4038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oto @@Loop </a:t>
            </a:r>
            <a:endParaRPr b="0" lang="en-US" sz="1400" spc="-1" strike="noStrike">
              <a:solidFill>
                <a:srgbClr val="ffffff"/>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CurrentPointer] ==MATCHING_TRIPLET){</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nvert it </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 </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CurrentPointer != FirstInstruction) call DecreasePointer</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goto @@Loop </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 (CurrentPointer++) while ([CurrentPointer] == NOP)</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CurrentPointer != LastInstruction) goto @@Loop</a:t>
            </a:r>
            <a:endParaRPr b="0" lang="en-US" sz="1400" spc="-1" strike="noStrike">
              <a:solidFill>
                <a:srgbClr val="ffffff"/>
              </a:solidFill>
              <a:latin typeface="Arial"/>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creasePointer: do (CurrentPointer--) while (([CurrentPointer] == NOP) &amp;&amp; ([CurrentPointer.Label == FALSE)) retur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2) Code</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have not yet found any code related to shrinking code so I do not have anything concrete to show for shrinker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 Expander</a:t>
            </a:r>
            <a:endParaRPr b="0" lang="en-US" sz="4400" spc="-1" strike="noStrike">
              <a:solidFill>
                <a:srgbClr val="ffffff"/>
              </a:solidFill>
              <a:latin typeface="Times New Roman"/>
            </a:endParaRPr>
          </a:p>
        </p:txBody>
      </p:sp>
      <p:sp>
        <p:nvSpPr>
          <p:cNvPr id="14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expander is most often it’s own module, with the only possible relationship being the previously mentioned relationship with the shrink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1) Psuedo-Code</a:t>
            </a: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Pointer = FirstInstruction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Expanded = 0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NotEndOfCode)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ean isExpandable = Expandable ([CurrentPointer])</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ndomNum = 0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0&lt;isExpandable&lt;4) RandomNum = random() % 2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se if(3&lt;isExpandable&lt;7) RandomNum = (random() % 4) - 1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se if(isExpandable == 7) RandomNum = (random() % 6) – 2</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f(RandomNum &lt;= 0 || AmountExpanded == EXPANDEDENOUGH) { IncrementPointer(CurrentPointer) AmountExpanded = 0 }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se { replace(CurrentPointer, expandOp([CurrentPointer], isExpandable, RandomNum)) Increment(AmountExpanded)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1) Psuedo-Code (Notes)</a:t>
            </a:r>
            <a:endParaRPr b="0" lang="en-US" sz="4400" spc="-1" strike="noStrike">
              <a:solidFill>
                <a:srgbClr val="ffffff"/>
              </a:solidFill>
              <a:latin typeface="Times New Roman"/>
            </a:endParaRPr>
          </a:p>
        </p:txBody>
      </p:sp>
      <p:sp>
        <p:nvSpPr>
          <p:cNvPr id="14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andable checks if the current operation can be expanded to a larger amount of code. Return Value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0: not expandable</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can expand to one operation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can expand to two operation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 can expand to three operation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 can expand to one or two operation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5: can expand to one or three operation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6: can expand to two or three operation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7: can expand to one, two, or three operation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1) Psuedo-Code (Notes)</a:t>
            </a:r>
            <a:endParaRPr b="0" lang="en-US" sz="4400" spc="-1" strike="noStrike">
              <a:solidFill>
                <a:srgbClr val="ffffff"/>
              </a:solidFill>
              <a:latin typeface="Times New Roman"/>
            </a:endParaRPr>
          </a:p>
        </p:txBody>
      </p:sp>
      <p:sp>
        <p:nvSpPr>
          <p:cNvPr id="14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ction replace: replaces the instruction pointed at by argument one with the instruction(s) in argument two.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ction expandOp: expands the operation pointed at by current pointer with instructions based on the values of the second two arguments (isExpandable, RandomNum) Possible Argument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xchange current operation with the one listed: (1,1),(4,1),(5,1), or (7,1)</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xpand current operation to the two mentioned in the list: (2,1),(4,2),(6,1), or (7,2)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xpand current operation to the three mentioned in the list: (3,1),(5,2),(6,1), or (7,3)</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2) Code (from Ramones by Vecna)</a:t>
            </a:r>
            <a:br>
              <a:rPr sz="4000"/>
            </a:br>
            <a:r>
              <a:rPr b="0" lang="en-US" sz="4000" spc="-1" strike="noStrike">
                <a:solidFill>
                  <a:srgbClr val="ffffff"/>
                </a:solidFill>
                <a:latin typeface="Times New Roman"/>
              </a:rPr>
              <a:t>MOV Reg,Reg to PUSH RegPOP Reg</a:t>
            </a:r>
            <a:endParaRPr b="0" lang="en-US" sz="4000" spc="-1" strike="noStrike">
              <a:solidFill>
                <a:srgbClr val="ffffff"/>
              </a:solidFill>
              <a:latin typeface="Times New Roman"/>
            </a:endParaRPr>
          </a:p>
        </p:txBody>
      </p:sp>
      <p:sp>
        <p:nvSpPr>
          <p:cNvPr id="148" name="PlaceHolder 2"/>
          <p:cNvSpPr>
            <a:spLocks noGrp="1"/>
          </p:cNvSpPr>
          <p:nvPr>
            <p:ph/>
          </p:nvPr>
        </p:nvSpPr>
        <p:spPr>
          <a:xfrm>
            <a:off x="533160" y="1828800"/>
            <a:ext cx="42670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v eax, ed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 al, 89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ov?</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ne @@no_mov_r2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v al, a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eax, 01100000000111111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 ah, 0c0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ne @@no_mov_r2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v ah, 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ax, 0000011100111000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 regist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
          <p:cNvSpPr/>
          <p:nvPr/>
        </p:nvSpPr>
        <p:spPr>
          <a:xfrm>
            <a:off x="5410080" y="1828800"/>
            <a:ext cx="327672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hr al, 3</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d ax, 5850h</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orm to PUSH/POP</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osb</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ll garbl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v al, ah</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osb</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2andgo:</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c esi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ust input buffer by 2</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c esi</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mp @@insert_nocod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_mov_r2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 Permutater</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mutaters are self-contained modules, which can be seen in the Win32/Ghost and Win95/Zper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1) Pseudo-Code</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I = Initial address of instructions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DI = Address of last instruction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ile(ESI &lt; EDI)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tore ESI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SI += Random(8)+8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tore ESI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f((ESI+0F &gt; EDI)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tore ESI,EDI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reak;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nd if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d whi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ief Description of Section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Disassembler: used to disassemble host, most often into a linked list of op code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 Depermutater: removes some of the jumps added by the permutater, and sometime also from the host, and therefore removes unreachable code.</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3) Shrinker: changes op code clusters to most efficient op cod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2) Code (from RPME by Zombie)</a:t>
            </a:r>
            <a:endParaRPr b="0" lang="en-US" sz="4000" spc="-1" strike="noStrike">
              <a:solidFill>
                <a:srgbClr val="ffffff"/>
              </a:solidFill>
              <a:latin typeface="Times New Roman"/>
            </a:endParaRPr>
          </a:p>
        </p:txBody>
      </p:sp>
      <p:sp>
        <p:nvSpPr>
          <p:cNvPr id="155" name="PlaceHolder 2"/>
          <p:cNvSpPr>
            <a:spLocks noGrp="1"/>
          </p:cNvSpPr>
          <p:nvPr>
            <p:ph/>
          </p:nvPr>
        </p:nvSpPr>
        <p:spPr>
          <a:xfrm>
            <a:off x="533520" y="1828800"/>
            <a:ext cx="4419360" cy="403848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for (hooy*h0=root,*h1=h0; h0; h1=h0, h0=h0-&gt;next)</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 ... h1 h0 ... */    // if h0-&gt;nxt is standard cmd</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h1-&gt;flags&amp;(CM_USER1|CM_XREF)))</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h0-&gt;flags&amp;(CM_USER1|CM_STOP|CM_XREF)))</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h0-&gt;nxt)&amp;&amp;(!(h0-&gt;nxt-&gt; flags&amp;(CM_HAVEREL|CM_STOP|CM_XREF))))</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nt r1,r2,r3,r4;</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nt n1=get_args(&amp;h0-&gt;cmd[0], &amp;r1,&amp;r2, h0-&gt;len);</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nt n2=get_args(&amp;h1-&gt;cmd[0], &amp;r3,&amp;r4, h1-&gt;len);</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n1 &amp;&amp; n2 &amp;&amp; (n1+n2&lt;=3))  // both ok, and only 1 may use stack</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r1!=5)&amp;&amp;(r3!=5))||(n1+n2==2)) // check if ESP //used</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r1==-1)||(r3==-1)||(r1!=r3))</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r1==-1)||(r4==-1)||(r1!=r4))</a:t>
            </a:r>
            <a:endParaRPr b="0" lang="en-US" sz="1300" spc="-1" strike="noStrike">
              <a:solidFill>
                <a:srgbClr val="ffffff"/>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56" name=""/>
          <p:cNvSpPr/>
          <p:nvPr/>
        </p:nvSpPr>
        <p:spPr>
          <a:xfrm>
            <a:off x="4724280" y="1600200"/>
            <a:ext cx="441972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1300" spc="-1" strike="noStrike">
                <a:solidFill>
                  <a:srgbClr val="ffffff"/>
                </a:solidFill>
                <a:latin typeface="Arial"/>
              </a:rPr>
              <a:t>if ((r2==-1)||(r3==-1)||(r2!=r3))</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f (user_random(fp,2))</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for (int i=0; i&lt;MAXCMDLEN; i++) // swap opcodes</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0-&gt;cmd[i]^=h1-&gt;cmd[i];</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1-&gt;cmd[i]^=h0-&gt;cmd[i];</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0-&gt;cmd[i]^=h1-&gt;cmd[i];</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0-&gt;len^=h1-&gt;len;               // swap lengths</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1-&gt;len^=h0-&gt;len;</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h0-&gt;len^=h1-&gt;len;</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t>
            </a:r>
            <a:endParaRPr b="0" lang="en-US" sz="1300" spc="-1" strike="noStrike">
              <a:solidFill>
                <a:srgbClr val="ffffff"/>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6) Assembler</a:t>
            </a:r>
            <a:endParaRPr b="0" lang="en-US" sz="4400" spc="-1" strike="noStrike">
              <a:solidFill>
                <a:srgbClr val="ffffff"/>
              </a:solidFill>
              <a:latin typeface="Times New Roman"/>
            </a:endParaRPr>
          </a:p>
        </p:txBody>
      </p:sp>
      <p:sp>
        <p:nvSpPr>
          <p:cNvPr id="1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assembler, the most prevalent problem that needs to be fixed during assembly is jump reloca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6.1) Psuedo-Code</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itialized:</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ip_table (8 bytes per entry):</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new_eip</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old_eip (+4)</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jmp_table (4 bytes per entry):</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ofset of referenced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instruction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6.1) Psuedo-Code</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int y=0; still jumps to process; y++)</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for(int x=0; not end of jmp_table; x++)</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if( jmp_table[x*4] == eip_table[(y*8)+4])</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assign jump eip_table[y*8]</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endif</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ndfor</a:t>
            </a:r>
            <a:endParaRPr b="0" lang="en-US" sz="3100" spc="-1" strike="noStrike">
              <a:solidFill>
                <a:srgbClr val="ffffff"/>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ndf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2) Code </a:t>
            </a:r>
            <a:br>
              <a:rPr sz="4000"/>
            </a:br>
            <a:r>
              <a:rPr b="0" lang="en-US" sz="4000" spc="-1" strike="noStrike">
                <a:solidFill>
                  <a:srgbClr val="ffffff"/>
                </a:solidFill>
                <a:latin typeface="Times New Roman"/>
              </a:rPr>
              <a:t>(from W95/Ramones by Vecna) </a:t>
            </a:r>
            <a:endParaRPr b="0" lang="en-US" sz="4000" spc="-1" strike="noStrike">
              <a:solidFill>
                <a:srgbClr val="ffffff"/>
              </a:solidFill>
              <a:latin typeface="Times New Roman"/>
            </a:endParaRPr>
          </a:p>
        </p:txBody>
      </p:sp>
      <p:sp>
        <p:nvSpPr>
          <p:cNvPr id="164" name="PlaceHolder 2"/>
          <p:cNvSpPr>
            <a:spLocks noGrp="1"/>
          </p:cNvSpPr>
          <p:nvPr>
            <p:ph/>
          </p:nvPr>
        </p:nvSpPr>
        <p:spPr>
          <a:xfrm>
            <a:off x="457200" y="1905120"/>
            <a:ext cx="464832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_damn_jmp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bx, [ebp+ofs jmp_table_cnt-ofs engin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si, [ebp+(ofs jmp_table-ofs engin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x_jmp:</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ec ebx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ll jmps, d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s @@done_fix_jmp</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ax, [esi+ebx*8]</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di, [esi+ebx*8+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old offset to new</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ll xref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dx, ed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tr edx, 31</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cx, edx</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b ecx, [ebp+(ofs destino-ofs engine)]</a:t>
            </a:r>
            <a:endParaRPr b="0" lang="en-US" sz="1600" spc="-1" strike="noStrike">
              <a:solidFill>
                <a:srgbClr val="ffffff"/>
              </a:solidFill>
              <a:latin typeface="Arial"/>
            </a:endParaRPr>
          </a:p>
        </p:txBody>
      </p:sp>
      <p:sp>
        <p:nvSpPr>
          <p:cNvPr id="165" name=""/>
          <p:cNvSpPr/>
          <p:nvPr/>
        </p:nvSpPr>
        <p:spPr>
          <a:xfrm>
            <a:off x="5029200" y="1828800"/>
            <a:ext cx="3733920" cy="4038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b eax, ecx                     </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culate new relative distance</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ar:</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t edi, 31</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c @@short</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patch</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dx-4], eax             </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mp @@fix_jmp</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ch 8b displacement</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v [edx-1], al             </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mp @@fix_jmp</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one_fix_jmp:</a:t>
            </a:r>
            <a:endParaRPr b="0" lang="en-US" sz="1600" spc="-1" strike="noStrike">
              <a:solidFill>
                <a:srgbClr val="ffffff"/>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 Other Ideas</a:t>
            </a:r>
            <a:endParaRPr b="0" lang="en-US" sz="4400" spc="-1" strike="noStrike">
              <a:solidFill>
                <a:srgbClr val="ffffff"/>
              </a:solidFill>
              <a:latin typeface="Times New Roman"/>
            </a:endParaRPr>
          </a:p>
        </p:txBody>
      </p:sp>
      <p:sp>
        <p:nvSpPr>
          <p:cNvPr id="16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gister Exchange (EBX becomes ECX)</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ntry Point Obscuring (EPO) &amp; Unknown Entry Point (UEP) Techniqu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grating other modules, such as garbage code generators and encryption, into metamorphis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1) Register Exchange</a:t>
            </a:r>
            <a:endParaRPr b="0" lang="en-US" sz="4400" spc="-1" strike="noStrike">
              <a:solidFill>
                <a:srgbClr val="ffffff"/>
              </a:solidFill>
              <a:latin typeface="Times New Roman"/>
            </a:endParaRPr>
          </a:p>
        </p:txBody>
      </p:sp>
      <p:sp>
        <p:nvSpPr>
          <p:cNvPr id="16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technique can be found in W9x/Regswap by Vecna and Zombie’s AZCME32c engine.  Both use different techniqu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2) EOP &amp; UEP Techniques</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OP: randomly placing a call or jmp to the virus rather than placing the virus so that it can be found at the entry point or by a call or jmp at the entry poi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EP: randomly placing the code for the virus directly in the stream of the hosts code (No call or jmp to the virus cod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7.3) Integrating Other Modules</a:t>
            </a:r>
            <a:br>
              <a:rPr sz="4000"/>
            </a:br>
            <a:r>
              <a:rPr b="0" lang="en-US" sz="4000" spc="-1" strike="noStrike">
                <a:solidFill>
                  <a:srgbClr val="ffffff"/>
                </a:solidFill>
                <a:latin typeface="Times New Roman"/>
              </a:rPr>
              <a:t>	</a:t>
            </a:r>
            <a:r>
              <a:rPr b="0" lang="en-US" sz="4000" spc="-1" strike="noStrike">
                <a:solidFill>
                  <a:srgbClr val="ffffff"/>
                </a:solidFill>
                <a:latin typeface="Times New Roman"/>
              </a:rPr>
              <a:t>Trash Code Generators</a:t>
            </a:r>
            <a:endParaRPr b="0" lang="en-US" sz="4000" spc="-1" strike="noStrike">
              <a:solidFill>
                <a:srgbClr val="ffffff"/>
              </a:solidFill>
              <a:latin typeface="Times New Roman"/>
            </a:endParaRPr>
          </a:p>
        </p:txBody>
      </p:sp>
      <p:sp>
        <p:nvSpPr>
          <p:cNvPr id="17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example generator is Zombie’s ETG (Executable Trash Genera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ash generation works best when the code is unreachable because of JMPs, among others, so that the generated code can be removed by the depermutater.  Otherwise, the virus will grow to an extremely large size after a few generation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7.3) Integrating Other Modules</a:t>
            </a:r>
            <a:br>
              <a:rPr sz="4000"/>
            </a:b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Encryption</a:t>
            </a:r>
            <a:endParaRPr b="0" lang="en-US" sz="4000" spc="-1" strike="noStrike">
              <a:solidFill>
                <a:srgbClr val="ffffff"/>
              </a:solidFill>
              <a:latin typeface="Times New Roman"/>
            </a:endParaRPr>
          </a:p>
        </p:txBody>
      </p:sp>
      <p:sp>
        <p:nvSpPr>
          <p:cNvPr id="17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 example of encryption used in a metamorphic virus is in the ZMIST virus, which uses a module for polymorphic encryption/decryp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ne of the main issue to notice when using an encryption is where the module places the decrypted code during the process.  In ZMIST, this is dealt with by placing the code in the initialized data section, which is the same as a file that decompresses itself at runtim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ief Description of Section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 Expander: randomly chooses code to change to equivalent op code or op code clu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 Permutater: randomly “shuffles” groups of code and links the groups with JMP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6) Assembler: re-assembles code at the end of the infection proces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8) How Does This Technique Defe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AV Techniques?</a:t>
            </a:r>
            <a:endParaRPr b="0" lang="en-US" sz="4000" spc="-1" strike="noStrike">
              <a:solidFill>
                <a:srgbClr val="ffffff"/>
              </a:solidFill>
              <a:latin typeface="Times New Roman"/>
            </a:endParaRPr>
          </a:p>
        </p:txBody>
      </p:sp>
      <p:sp>
        <p:nvSpPr>
          <p:cNvPr id="17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3700" spc="-1" strike="noStrike">
                <a:solidFill>
                  <a:srgbClr val="ffffff"/>
                </a:solidFill>
                <a:latin typeface="Arial"/>
              </a:rPr>
              <a:t>The article “Zmist Opportunities” in </a:t>
            </a:r>
            <a:r>
              <a:rPr b="0" lang="en-US" sz="3700" spc="-1" strike="noStrike" u="sng">
                <a:solidFill>
                  <a:srgbClr val="ffffff"/>
                </a:solidFill>
                <a:uFillTx/>
                <a:latin typeface="Arial"/>
              </a:rPr>
              <a:t>Virus Bulletin</a:t>
            </a:r>
            <a:r>
              <a:rPr b="0" lang="en-US" sz="3700" spc="-1" strike="noStrike">
                <a:solidFill>
                  <a:srgbClr val="ffffff"/>
                </a:solidFill>
                <a:latin typeface="Arial"/>
              </a:rPr>
              <a:t> March 2001 the authors stated, “Metamorphic creations will come very close to the concept of a theoretically undetectable virus.”</a:t>
            </a:r>
            <a:endParaRPr b="0" lang="en-US" sz="3700" spc="-1" strike="noStrike">
              <a:solidFill>
                <a:srgbClr val="ffffff"/>
              </a:solidFill>
              <a:latin typeface="Arial"/>
            </a:endParaRPr>
          </a:p>
          <a:p>
            <a:pPr marL="34308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Zmist will be used as the test for the AV techniques.</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8.1) Zombie’s Ideas on Undetectable Viruses (29A #6).</a:t>
            </a:r>
            <a:endParaRPr b="0" lang="en-US" sz="4000" spc="-1" strike="noStrike">
              <a:solidFill>
                <a:srgbClr val="ffffff"/>
              </a:solidFill>
              <a:latin typeface="Times New Roman"/>
            </a:endParaRPr>
          </a:p>
        </p:txBody>
      </p:sp>
      <p:sp>
        <p:nvSpPr>
          <p:cNvPr id="17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riables:</a:t>
            </a:r>
            <a:endParaRPr b="0" lang="en-US" sz="2600" spc="-1" strike="noStrike">
              <a:solidFill>
                <a:srgbClr val="ffffff"/>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 := complexity of checking file for some </a:t>
            </a:r>
            <a:r>
              <a:rPr b="0" lang="en-US" sz="2600" spc="-1" strike="noStrike">
                <a:solidFill>
                  <a:srgbClr val="ffffff"/>
                </a:solidFill>
                <a:latin typeface="Arial"/>
              </a:rPr>
              <a:t>	</a:t>
            </a:r>
            <a:r>
              <a:rPr b="0" lang="en-US" sz="2600" spc="-1" strike="noStrike">
                <a:solidFill>
                  <a:srgbClr val="ffffff"/>
                </a:solidFill>
                <a:latin typeface="Arial"/>
              </a:rPr>
              <a:t>virus.</a:t>
            </a:r>
            <a:endParaRPr b="0" lang="en-US" sz="2600" spc="-1" strike="noStrike">
              <a:solidFill>
                <a:srgbClr val="ffffff"/>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i] := complexity, caused by metamorphism, polymorphism, etc., of checking file for some virus at a specific address.</a:t>
            </a:r>
            <a:endParaRPr b="0" lang="en-US" sz="2600" spc="-1" strike="noStrike">
              <a:solidFill>
                <a:srgbClr val="ffffff"/>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 := number of possible addresses in file where execution of virus body (or part of this body could) start.</a:t>
            </a:r>
            <a:endParaRPr b="0" lang="en-US" sz="2600" spc="-1" strike="noStrike">
              <a:solidFill>
                <a:srgbClr val="ffffff"/>
              </a:solidFill>
              <a:latin typeface="Arial"/>
            </a:endParaRPr>
          </a:p>
          <a:p>
            <a:pPr marL="339480" indent="-3394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ula:</a:t>
            </a:r>
            <a:endParaRPr b="0" lang="en-US" sz="2600" spc="-1" strike="noStrike">
              <a:solidFill>
                <a:srgbClr val="ffffff"/>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 = C[i] * 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2) Signature Scan</a:t>
            </a:r>
            <a:endParaRPr b="0" lang="en-US" sz="4400" spc="-1" strike="noStrike">
              <a:solidFill>
                <a:srgbClr val="ffffff"/>
              </a:solidFill>
              <a:latin typeface="Times New Roman"/>
            </a:endParaRPr>
          </a:p>
        </p:txBody>
      </p:sp>
      <p:sp>
        <p:nvSpPr>
          <p:cNvPr id="18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bviously, by having a constantly variable body generation to generation, there will be no signature, unless the virus purposely leaves an unambiguous sign to mark already infected fi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Zmist places a ‘Z’ at offset 0X1Ch as an infection mar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an ambiguous marker is used false positives will be encountered by the virus and AV, if it uses it as a signatur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3) Geometric Scanning</a:t>
            </a: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Zmist virus causes at least a 32KB increase in the virtual size of the data sec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a geometric scanner, which looks for size changes, the scanner will often give false positives since this action is extremely similar to the actions of a runtime-compressed fil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4) Possible Answer</a:t>
            </a:r>
            <a:endParaRPr b="0" lang="en-US" sz="4400" spc="-1" strike="noStrike">
              <a:solidFill>
                <a:srgbClr val="ffffff"/>
              </a:solidFill>
              <a:latin typeface="Times New Roman"/>
            </a:endParaRPr>
          </a:p>
        </p:txBody>
      </p:sp>
      <p:sp>
        <p:nvSpPr>
          <p:cNvPr id="18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combination of techniques that as a whole could be used in a heuristic concep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flaws in this answer:</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would become very time consuming and therefore would often not be used by the public, as pointed out on many occasion by Ferrie &amp; Szo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chniques that require emulation can be blocked by the latest anti-emulation technique being integrated into the cod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9) Future Possiblities</a:t>
            </a:r>
            <a:endParaRPr b="0" lang="en-US" sz="4400" spc="-1" strike="noStrike">
              <a:solidFill>
                <a:srgbClr val="ffffff"/>
              </a:solidFill>
              <a:latin typeface="Times New Roman"/>
            </a:endParaRPr>
          </a:p>
        </p:txBody>
      </p:sp>
      <p:sp>
        <p:nvSpPr>
          <p:cNvPr id="18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ing a psuedo-language with multiple assemblers for cross-platform infec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in worm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munication between virus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 Why This Technique Is Superior </a:t>
            </a:r>
            <a:r>
              <a:rPr b="0" lang="en-US" sz="4000" spc="-1" strike="noStrike">
                <a:solidFill>
                  <a:srgbClr val="ffffff"/>
                </a:solidFill>
                <a:latin typeface="Times New Roman"/>
              </a:rPr>
              <a:t>	</a:t>
            </a:r>
            <a:r>
              <a:rPr b="0" lang="en-US" sz="4000" spc="-1" strike="noStrike">
                <a:solidFill>
                  <a:srgbClr val="ffffff"/>
                </a:solidFill>
                <a:latin typeface="Times New Roman"/>
              </a:rPr>
              <a:t>To Previous Techniques:</a:t>
            </a:r>
            <a:endParaRPr b="0" lang="en-US" sz="4000" spc="-1" strike="noStrike">
              <a:solidFill>
                <a:srgbClr val="ffffff"/>
              </a:solidFill>
              <a:latin typeface="Times New Roman"/>
            </a:endParaRPr>
          </a:p>
        </p:txBody>
      </p:sp>
      <p:sp>
        <p:nvSpPr>
          <p:cNvPr id="18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ash generation: This technique will cause a constant growth in code size until the virus becomes to large and obvio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lymorphism: The majority of polymorphic viruses decrypt into a constant code body that can be recognize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1) Thank You</a:t>
            </a:r>
            <a:endParaRPr b="0" lang="en-US" sz="4400" spc="-1" strike="noStrike">
              <a:solidFill>
                <a:srgbClr val="ffffff"/>
              </a:solidFill>
              <a:latin typeface="Times New Roman"/>
            </a:endParaRPr>
          </a:p>
        </p:txBody>
      </p:sp>
      <p:sp>
        <p:nvSpPr>
          <p:cNvPr id="19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4000" spc="-1" strike="noStrike">
                <a:solidFill>
                  <a:srgbClr val="ffffff"/>
                </a:solidFill>
                <a:latin typeface="Arial"/>
              </a:rPr>
              <a:t>I will be happy to answer any questions to the best of my abilities that you have with the remaining time.  If you still have questions, I’d be happy to speak to you la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tamorphic Programming Approach</a:t>
            </a:r>
            <a:endParaRPr b="0" lang="en-US" sz="40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Do not think in code think in macros” (Mental Drill).</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n other words, the best approach to this process it to approach it with software engineering in mind.  Everything is a separate/independent module or macr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Disassembler (Choice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ing a pseudo-language, which was the idea presented in “Metamorphism in Practice” by Mental Dril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ing a reverse-engineering tool, such as LDE (Length Disassembly Engine) and ADE (Advanced Disassembly Engine) by Zombi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1) “Pseudo” Code Ex. by Mental Drill</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 Code Structure:</a:t>
            </a:r>
            <a:endParaRPr b="0" lang="en-US" sz="31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ff"/>
                </a:solidFill>
                <a:latin typeface="Arial"/>
              </a:rPr>
              <a:t>00 00 00 00 00 00 00 00 00 00 00 00 00 00 00 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 *-------- instruction data -------*  LM *-pointer-* </a:t>
            </a:r>
            <a:endParaRPr b="0" lang="en-US" sz="24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 Coding Ex. (Full List in Article):</a:t>
            </a:r>
            <a:endParaRPr b="0" lang="en-US" sz="31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V:= 40; Reg, Mem:= +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MOV Reg, Mem := 4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2) Using AD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32 contains a short manual with the code that will direct you through the process of including it with your cod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Depermutator (Choices)</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grate depermutator into the disassembly process. (This is the most com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separate module for depermutat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3T17:37:03Z</dcterms:created>
  <dc:creator>l-user</dc:creator>
  <dc:description/>
  <dc:language>en-US</dc:language>
  <cp:lastModifiedBy>l-user</cp:lastModifiedBy>
  <dcterms:modified xsi:type="dcterms:W3CDTF">2003-07-10T19:35:47Z</dcterms:modified>
  <cp:revision>33</cp:revision>
  <dc:subject/>
  <dc:title>Metamorphic Viruses</dc:title>
</cp:coreProperties>
</file>